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A625-950C-4559-A38F-B63E089B07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456-FC0E-4E29-864A-C1F98E91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683-939E-4DAA-85BB-007F13BA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5BD-96DA-495F-831B-EDF360A1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B67-9228-478C-BBC2-2D9BC51D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E9E7-9263-4319-9D00-C6BFB07A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E121-7F80-4067-BA6F-72804E70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4100-17E0-4E19-813A-E6E71B66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4EC5-CE7B-4710-AE2D-1FC59BFC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3265-DB03-4230-A87F-616A12E3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5074-5A9F-4EA3-A995-DF60C7E2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95B0-A18A-49C1-A836-FB49F63D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B0E-FDF7-45CA-955C-52338377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C68D-AE79-46A1-8150-80625C18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F814-2815-463F-B801-A4842B95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3C4E-9C38-4C68-A96A-45B529EE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ED75-AB87-43CA-AB80-C0C64A38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5D40-2F3A-4301-A397-F52B1236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59E-2942-4D65-8738-6E9C445F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005-4958-4BEC-A8B6-343EC20E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7C1-BA1C-4844-B48F-7A60B091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1BA-FD37-4612-8189-6EAECFB8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833-113D-4601-8F6B-C327604D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379-E95E-4F03-AA05-294AF59F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AFD-B63A-4BEC-AF49-D0807584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FDE7-E6FA-4E51-A045-0CC6B82C382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BE62-E311-4596-BB68-5F127A3735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suffolk_4"/>
          <p:cNvPicPr/>
          <p:nvPr/>
        </p:nvPicPr>
        <p:blipFill>
          <a:blip r:embed="rId1"/>
          <a:stretch/>
        </p:blipFill>
        <p:spPr>
          <a:xfrm>
            <a:off x="1476360" y="1628640"/>
            <a:ext cx="5616720" cy="43513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lincoln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0032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merino"/>
          <p:cNvPicPr/>
          <p:nvPr/>
        </p:nvPicPr>
        <p:blipFill>
          <a:blip r:embed="rId1"/>
          <a:stretch/>
        </p:blipFill>
        <p:spPr>
          <a:xfrm>
            <a:off x="2124000" y="1989000"/>
            <a:ext cx="4969080" cy="4248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outh_suffolk4"/>
          <p:cNvPicPr/>
          <p:nvPr/>
        </p:nvPicPr>
        <p:blipFill>
          <a:blip r:embed="rId1"/>
          <a:stretch/>
        </p:blipFill>
        <p:spPr>
          <a:xfrm>
            <a:off x="1908000" y="1773360"/>
            <a:ext cx="4967640" cy="4749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Leghorn_Red"/>
          <p:cNvPicPr/>
          <p:nvPr/>
        </p:nvPicPr>
        <p:blipFill>
          <a:blip r:embed="rId1"/>
          <a:stretch/>
        </p:blipFill>
        <p:spPr>
          <a:xfrm>
            <a:off x="1692360" y="1595520"/>
            <a:ext cx="5832360" cy="45972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Lakenvelder"/>
          <p:cNvPicPr/>
          <p:nvPr/>
        </p:nvPicPr>
        <p:blipFill>
          <a:blip r:embed="rId1"/>
          <a:stretch/>
        </p:blipFill>
        <p:spPr>
          <a:xfrm>
            <a:off x="1619280" y="1916280"/>
            <a:ext cx="5616720" cy="4360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LangshanWhtLg"/>
          <p:cNvPicPr/>
          <p:nvPr/>
        </p:nvPicPr>
        <p:blipFill>
          <a:blip r:embed="rId1"/>
          <a:stretch/>
        </p:blipFill>
        <p:spPr>
          <a:xfrm>
            <a:off x="1835280" y="1665360"/>
            <a:ext cx="5689440" cy="45734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cow charolais-web-1"/>
          <p:cNvPicPr/>
          <p:nvPr/>
        </p:nvPicPr>
        <p:blipFill>
          <a:blip r:embed="rId1"/>
          <a:stretch/>
        </p:blipFill>
        <p:spPr>
          <a:xfrm>
            <a:off x="1403280" y="1916280"/>
            <a:ext cx="6769080" cy="4197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ow hereford1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283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ow limousin1"/>
          <p:cNvPicPr/>
          <p:nvPr/>
        </p:nvPicPr>
        <p:blipFill>
          <a:blip r:embed="rId1"/>
          <a:stretch/>
        </p:blipFill>
        <p:spPr>
          <a:xfrm>
            <a:off x="1042920" y="1557360"/>
            <a:ext cx="6696000" cy="4346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pig landrace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306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pig saddleback"/>
          <p:cNvPicPr/>
          <p:nvPr/>
        </p:nvPicPr>
        <p:blipFill>
          <a:blip r:embed="rId1"/>
          <a:stretch/>
        </p:blipFill>
        <p:spPr>
          <a:xfrm>
            <a:off x="1187280" y="1779480"/>
            <a:ext cx="6769440" cy="41706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pig yorkshire"/>
          <p:cNvPicPr/>
          <p:nvPr/>
        </p:nvPicPr>
        <p:blipFill>
          <a:blip r:embed="rId1"/>
          <a:stretch/>
        </p:blipFill>
        <p:spPr>
          <a:xfrm>
            <a:off x="1692360" y="1754280"/>
            <a:ext cx="6048360" cy="4432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pig durroc"/>
          <p:cNvPicPr/>
          <p:nvPr/>
        </p:nvPicPr>
        <p:blipFill>
          <a:blip r:embed="rId1"/>
          <a:stretch/>
        </p:blipFill>
        <p:spPr>
          <a:xfrm>
            <a:off x="1258920" y="1844640"/>
            <a:ext cx="6337440" cy="45118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pig meat"/>
          <p:cNvPicPr/>
          <p:nvPr/>
        </p:nvPicPr>
        <p:blipFill>
          <a:blip r:embed="rId1"/>
          <a:stretch/>
        </p:blipFill>
        <p:spPr>
          <a:xfrm>
            <a:off x="900000" y="1773360"/>
            <a:ext cx="7559640" cy="44370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9:50:28Z</dcterms:created>
  <dc:creator>rik g</dc:creator>
  <dc:description/>
  <dc:language>en-US</dc:language>
  <cp:lastModifiedBy>LEGION2</cp:lastModifiedBy>
  <dcterms:modified xsi:type="dcterms:W3CDTF">2016-01-12T10:35:29Z</dcterms:modified>
  <cp:revision>13</cp:revision>
  <dc:subject/>
  <dc:title>Animal br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